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01E2A8B-5162-44C4-8412-E47EB80312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1181160" y="703440"/>
            <a:ext cx="4622760" cy="346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DD3DA812-E1C5-45BE-ABE6-CA2D5DC3BA0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tsessor, programmide tööpõhimõtted 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9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04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0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14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ing is linguist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ing is an </a:t>
            </a:r>
            <a:r>
              <a:rPr b="1" lang="en-GB" sz="1800" spc="-1" strike="noStrike">
                <a:solidFill>
                  <a:srgbClr val="280099"/>
                </a:solidFill>
                <a:latin typeface="Bitstream Vera Sans"/>
              </a:rPr>
              <a:t>explanatory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tiv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yourself, now and in the fut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whoever has to read your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the compiler, which has to make it ru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planations require 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languag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state clearly what is going 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 communicate ideas over space and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119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124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inalähedane ja ebamugav:  Fortran, C  (portaabel assemb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bstraktsem ja mugavam:  Lisp, Ada, ML, Java, Pyth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äringukeeled (SQL, RDQ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junduskeeled (HTML, PS, 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petsifitseerimiskeeled (loogikakeeled, UM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2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vuti suudab täita ainult masinkoodis progr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de: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kontrollib/ veidi teisendab teda ja asub nö sisekujul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34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romissvarian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ja Firefoxi Javascrip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hrome V8 Javascript: kompileerib algul kogu programmi masinkoodiks kiire kompilaatoriga, seejärel kompileerib töö käigus selgunud kriitilised kohad aeglasema optimeeriva kompilaatoriga, mis annab kiiremini töötava tulem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39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eeldetuletu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eelmisest loengust: protsessor ja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ed: põhiideed ja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ache ja mälu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5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2"/>
          <p:cNvGrpSpPr/>
          <p:nvPr/>
        </p:nvGrpSpPr>
        <p:grpSpPr>
          <a:xfrm>
            <a:off x="1695600" y="873000"/>
            <a:ext cx="5748840" cy="4907160"/>
            <a:chOff x="1695600" y="873000"/>
            <a:chExt cx="5748840" cy="4907160"/>
          </a:xfrm>
        </p:grpSpPr>
        <p:sp>
          <p:nvSpPr>
            <p:cNvPr id="165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325800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>
              <a:off x="369144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4209120" y="2778120"/>
              <a:ext cx="990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475848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475848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776680" y="5022720"/>
              <a:ext cx="434124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14828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8252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651348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6567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557244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 flipH="1">
              <a:off x="521424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369432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te erisused: kolm põhias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1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tüüpilised asjad, mida pea iga keel pak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825480" y="456840"/>
            <a:ext cx="7767720" cy="312840"/>
            <a:chOff x="825480" y="456840"/>
            <a:chExt cx="7767720" cy="312840"/>
          </a:xfrm>
        </p:grpSpPr>
        <p:sp>
          <p:nvSpPr>
            <p:cNvPr id="216" name="Line 4"/>
            <p:cNvSpPr/>
            <p:nvPr/>
          </p:nvSpPr>
          <p:spPr>
            <a:xfrm>
              <a:off x="82548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59320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näited lisavõimalustest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299880"/>
            <a:ext cx="7765920" cy="306720"/>
            <a:chOff x="914400" y="299880"/>
            <a:chExt cx="7765920" cy="306720"/>
          </a:xfrm>
        </p:grpSpPr>
        <p:sp>
          <p:nvSpPr>
            <p:cNvPr id="62" name="Line 4"/>
            <p:cNvSpPr/>
            <p:nvPr/>
          </p:nvSpPr>
          <p:spPr>
            <a:xfrm>
              <a:off x="914400" y="60192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03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1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6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261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 The CPU-Memory G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57200" y="930240"/>
            <a:ext cx="8167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The gap widens between DRAM, disk, and CPU speed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-11160" y="167652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6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6160680" y="43434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18"/>
          <p:cNvSpPr/>
          <p:nvPr/>
        </p:nvSpPr>
        <p:spPr>
          <a:xfrm flipH="1">
            <a:off x="7303680" y="6172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67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72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77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82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87" name="Line 4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914400" y="294840"/>
            <a:ext cx="7767720" cy="312840"/>
            <a:chOff x="914400" y="294840"/>
            <a:chExt cx="7767720" cy="312840"/>
          </a:xfrm>
        </p:grpSpPr>
        <p:sp>
          <p:nvSpPr>
            <p:cNvPr id="92" name="Line 4"/>
            <p:cNvSpPr/>
            <p:nvPr/>
          </p:nvSpPr>
          <p:spPr>
            <a:xfrm>
              <a:off x="914400" y="6033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 flipV="1">
              <a:off x="8682120" y="294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2058840" y="1922400"/>
            <a:ext cx="6856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28600" y="1955880"/>
            <a:ext cx="1828800" cy="375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4-10-24T08:27:30Z</dcterms:modified>
  <cp:revision>24</cp:revision>
  <dc:subject/>
  <dc:title>PowerPoint Presentation</dc:title>
</cp:coreProperties>
</file>